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6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30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2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6.jpeg" ContentType="image/jpeg"/>
  <Override PartName="/ppt/media/image28.png" ContentType="image/png"/>
  <Override PartName="/ppt/media/image38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3C40-47C0-4CF5-8C6B-CBA6F251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189-80D5-42BD-A7DE-693FAD0A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216FD5-302A-4923-8C0A-834912F2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F5C35-0D42-4346-AB4F-A4CB5A2C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EDB1-924C-41B6-B535-E09B0C68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42F43-A061-4EC4-AB15-80E7A300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803BC-1300-4EEE-AA49-6EAE3F45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6D31A-7501-44F4-B84B-4D34E985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3467-3CE1-4AF3-BEF4-C166970B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5E24E6-9E4E-4F29-9A3B-8942DD8E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8FAF3-AED4-4495-AE78-EDBC6B446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C209ED-A3C6-44ED-B6ED-9D9FAC9F4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680F-C707-4159-AD81-5AEB1359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6BAA9-F513-4139-B1E8-90A3C5AF205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D25BC1-0B30-43F8-87E8-A45151755A8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F3C3B-64AF-46FE-B433-CF35927DF2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3B9A6-6839-4016-867A-976792B5FD9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D6D02A-42B3-48BE-8E5C-79C0D9E22B2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CAC3B-17D7-44CE-B660-9E589D00A67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6E4ED-BC5D-48B5-B01D-9B15B340C08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7F7D84-22F2-4F66-AB72-3EE58FBE702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362A2-306A-46E3-81C8-69CCCE41DCA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E2428-6EA0-49BD-AD30-6BD516A46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AB8-1D65-4C73-B2B4-83325DD0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D9739-60EF-4B73-AD39-314145FC764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B61371-764D-40E9-A42E-20C28B627D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D0407-7BA9-438E-9F04-9ED93E8C0D7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601057-DE75-4EF4-BD08-41E9F9237C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8BD860-88F3-4E0D-90D5-06204E8819B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91C597-F3BD-4E5C-B94D-5065D98E055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DF16B0-9480-44CB-A145-DF400150F5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096771-72BC-412B-A380-77CBA477439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B4EFD7-44C0-4DAC-A80E-F676CFB964D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5DFC0A-4644-41B8-B78B-EBCED3F8C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0129-B054-45A0-B2ED-ADAD4C46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050465-1BDB-4796-B647-7B2CF0391E3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4D68E7-37B8-4732-997F-FB0E5EED0B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56F74A-C496-4958-B395-34D3594A1D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B4E4-F28C-4A4B-8B5F-EF3062F7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505F-BEF7-49C1-95C9-AA35F99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81703-6529-42CD-88C7-2D0877DE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59F3-49C5-4CF1-9E18-46052049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6F6-42E8-4B31-ACBE-93051954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212-C211-428C-82A0-CEBAE71C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66B-76C6-4A99-A9DB-95610DBC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C690-2336-41FC-9377-F5B7EE33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6464-A3CB-4B0D-B361-D0CEFF79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3BB2-BF96-4CD0-9E16-8E11530F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F89A-20BA-481A-AA10-E470CA59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6FAD-C5E4-41C3-B7BF-F9F601C9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6DD1-D83D-475C-8BA2-6F2B78D5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9A45-D48F-4A4D-8038-9059A2D8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B478A-6F4B-4733-AB14-24E6D0FB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0264E-0FCE-444B-BD22-66F7C70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8E9CA-0B13-4A17-A2D5-BE5057E3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2A5-FF39-4474-BEA7-EBF09855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6D41A-3294-4079-8A7C-037D4218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4571-84AA-45F4-A9F4-DC2B7BF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3C75-29A2-4B87-8B8A-58AF54A5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B8A1E-E9DE-446B-88FA-5CEBCEC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0A7E-3FAC-4372-8245-53DF157C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D7B5-0904-438F-A9DE-A452A507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4A544-9356-4EDB-A218-C0B884AF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4317B-151A-4438-91EB-9D50B0F5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B448D-85CC-47A5-AA6A-96DAAA43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9EE4C-D89F-49D4-BDE7-4EFD3092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869-9C26-4941-81A6-0F0A85C3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7B973-F9F1-4B26-BB7D-C5663F32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80A9-5387-4BE2-82A1-E2D424DB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F2133-1688-460D-BCE2-CCE04BDE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49131-DD84-4A60-A60F-57A8A71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EA68-4885-4CF7-9DA4-3FAB3EE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CE099-C49D-4617-9270-0BC900C7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9B147-803F-41FF-9C41-D1B2E52D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50D06-B97E-4DE1-AA61-528BB2871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65BA-F845-4C4E-8B2B-AFC6B073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2960D-C924-44E2-ADB4-B4C5EDE4B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12C-B3F5-49D5-99CA-94523AC9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AAE86-015E-464A-AA71-1934A71D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A92A-F78E-4D99-929F-60D53E31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AE83E-2F2B-4BEA-8CDE-687AE1F6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D484-108B-402A-B2D5-D8764833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C48D-83F6-4C51-92B1-49F78E05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5F150-19F1-4F14-8EEB-0552FC9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A02DE-B90C-49E3-9601-2BAD6A84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2C4DB-D40B-4115-AA15-83CE07E5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C15C4-2F48-4182-B385-50AF1361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221F2-DA25-4951-A9CA-1CF1B2A6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1C5-9544-40E8-A769-FCE3C0E1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47893-883D-4DBA-9432-4E4663DA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40B4-4643-4026-852C-044AE301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70451-45F9-46D5-AB20-2210A3C9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F129F-1A30-426F-92AA-9584BA32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B2371-8080-438D-BE95-036B44ED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C7A9F-11EC-431D-8125-189964C5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1E48E-9A4E-4810-917A-F1F85416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6BFE-2231-41E5-B603-638E8EF0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2213-4A5E-4C3A-88AC-9E60CF1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E272-AAF5-4DE9-B0EC-6F34E9C5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478-70DD-454E-9DB0-895C0DF4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13DF2-6ABF-473A-B094-628F9D6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64EB-F076-417C-9CC4-DD2EE19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13962-4FD0-402D-8248-C2F05ED7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1CA7C-A370-4809-9CAE-DD175603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D460-4207-486E-8BCB-D25EC55E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30E9C-DF73-400B-928C-3161B0CC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57E1A-76D4-4491-936F-34ADB982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2ACA-F095-47A7-8418-C6C906A2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6E182-E666-43A3-9900-70EB0056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8547-5FC9-4A1A-A0BB-775F8AB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855-5CF4-4917-B706-2BCE6A26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1FC39-D619-4753-BF97-CF4B50EE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48572-9029-4290-B453-511E8CAD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57B46-2FF2-4247-AC20-A7F3606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13D54-07A5-4757-92B5-35B065AF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5C1A8-430A-4B3C-B8B7-55333FAC4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63604-42A4-49FD-B3BD-507B598C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5D3E2-E636-44B3-9421-1C86379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794C-3864-43FC-90E3-268F0383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64815-F9A7-4C96-A32B-AFE52BEA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6E250-FA14-4A90-8F52-D362182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0FD-1BE7-4636-9EB9-F968D665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7C94F-D6B6-4F43-A042-52E61345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0278D-4C59-4E26-8F99-2BD108D3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3183C-E73C-4FF2-AF42-64E780D7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CCD96-C56C-4B31-8D38-2567C647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7E7F4-2744-44D5-A370-994DDB9D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13197-7994-41A6-95B1-D7E4D56B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DC27-FE9F-4CCF-970E-1671C4FF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9A7EA-E143-4BB5-AE0F-AFF2C980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BFBB2-7BFF-4A9A-B265-449C02E9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E159-DAD1-4E1B-9B13-233717F9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A1E3-4CAE-4BA6-BC92-76EF48A8918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2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5EF-DA0D-4253-A5C3-CC5806CD43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6472-6C29-49BC-A27D-CA6C3B3D17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5282-49B6-4769-90EF-9611F117C4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0DAF-7A33-4550-9B73-11C38B45E06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55FF-6D6B-4D6D-BA0D-44C907799D0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30BE-0314-461C-A10B-421557BC619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819C-F2B3-4562-85E4-7B1DBCB605A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E61-82EE-437F-B027-09E9D7D2902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3E7F-861F-49FF-ABA0-C9D6F67B2A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571F-692B-4443-8407-F2606C285AD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1239840" y="6245280"/>
            <a:ext cx="664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79F0-A0D8-48A7-9E05-31F7C3A8EF6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177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7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ADVANCED SQL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3" descr="Noname.gif"/>
          <p:cNvPicPr/>
          <p:nvPr/>
        </p:nvPicPr>
        <p:blipFill>
          <a:blip r:embed="rId2"/>
          <a:stretch/>
        </p:blipFill>
        <p:spPr>
          <a:xfrm>
            <a:off x="457200" y="2522520"/>
            <a:ext cx="8118360" cy="22384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12800" y="4442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NATURAL 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105840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r each customer who placed an order, what is the customer’s name and order numb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D5E-3203-4187-90AE-05BE8915B61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6" name="Group 13"/>
          <p:cNvGrpSpPr/>
          <p:nvPr/>
        </p:nvGrpSpPr>
        <p:grpSpPr>
          <a:xfrm>
            <a:off x="1487520" y="2109960"/>
            <a:ext cx="7070760" cy="1768320"/>
            <a:chOff x="1487520" y="2109960"/>
            <a:chExt cx="7070760" cy="1768320"/>
          </a:xfrm>
        </p:grpSpPr>
        <p:sp>
          <p:nvSpPr>
            <p:cNvPr id="547" name="Rectangle 4"/>
            <p:cNvSpPr/>
            <p:nvPr/>
          </p:nvSpPr>
          <p:spPr>
            <a:xfrm>
              <a:off x="1487520" y="3416400"/>
              <a:ext cx="5024520" cy="4618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Text Box 5"/>
            <p:cNvSpPr/>
            <p:nvPr/>
          </p:nvSpPr>
          <p:spPr>
            <a:xfrm>
              <a:off x="3513240" y="2109960"/>
              <a:ext cx="5045040" cy="39888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Join involves multiple tables in FROM claus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 flipH="1">
              <a:off x="4997520" y="2554200"/>
              <a:ext cx="63360" cy="78768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0" name="Group 8"/>
          <p:cNvGrpSpPr/>
          <p:nvPr/>
        </p:nvGrpSpPr>
        <p:grpSpPr>
          <a:xfrm>
            <a:off x="612720" y="4025880"/>
            <a:ext cx="6511680" cy="1830960"/>
            <a:chOff x="612720" y="4025880"/>
            <a:chExt cx="6511680" cy="1830960"/>
          </a:xfrm>
        </p:grpSpPr>
        <p:sp>
          <p:nvSpPr>
            <p:cNvPr id="551" name="Text Box 9"/>
            <p:cNvSpPr/>
            <p:nvPr/>
          </p:nvSpPr>
          <p:spPr>
            <a:xfrm>
              <a:off x="802080" y="4848120"/>
              <a:ext cx="3794040" cy="100872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ON clause performs the equality check for common columns of the two table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>
              <a:off x="612720" y="4025880"/>
              <a:ext cx="6511680" cy="4208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11"/>
            <p:cNvSpPr/>
            <p:nvPr/>
          </p:nvSpPr>
          <p:spPr>
            <a:xfrm flipV="1">
              <a:off x="3241800" y="4419720"/>
              <a:ext cx="0" cy="4572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" name="Text Box 14"/>
          <p:cNvSpPr/>
          <p:nvPr/>
        </p:nvSpPr>
        <p:spPr>
          <a:xfrm>
            <a:off x="4932360" y="4748040"/>
            <a:ext cx="4100400" cy="17398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e: From Fig. 7-1, you see that only 10 Customers have links with ord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10 rows will be returned from this INNER jo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12" descr="Noname.gif"/>
          <p:cNvPicPr/>
          <p:nvPr/>
        </p:nvPicPr>
        <p:blipFill>
          <a:blip r:embed="rId2"/>
          <a:stretch/>
        </p:blipFill>
        <p:spPr>
          <a:xfrm>
            <a:off x="523800" y="2757600"/>
            <a:ext cx="8096400" cy="13428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38280" y="3520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UTER JOIN EXAMPLE 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2949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ist the customer name, ID number, and order number for all customers. Include customer information even for customers that do have an ord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376D-FD04-4CA6-B73D-CC393644609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9" name="Group 10"/>
          <p:cNvGrpSpPr/>
          <p:nvPr/>
        </p:nvGrpSpPr>
        <p:grpSpPr>
          <a:xfrm>
            <a:off x="1441440" y="3230640"/>
            <a:ext cx="4482720" cy="2954520"/>
            <a:chOff x="1441440" y="3230640"/>
            <a:chExt cx="4482720" cy="2954520"/>
          </a:xfrm>
        </p:grpSpPr>
        <p:sp>
          <p:nvSpPr>
            <p:cNvPr id="560" name="Text Box 5"/>
            <p:cNvSpPr/>
            <p:nvPr/>
          </p:nvSpPr>
          <p:spPr>
            <a:xfrm>
              <a:off x="1441440" y="4262400"/>
              <a:ext cx="3681360" cy="192276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LEFT OUTER JOIN clause causes customer data to appear even if there is no corresponding order dat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3450960" y="3230640"/>
              <a:ext cx="2473200" cy="3808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2" name="Text Box 11"/>
          <p:cNvSpPr/>
          <p:nvPr/>
        </p:nvSpPr>
        <p:spPr>
          <a:xfrm>
            <a:off x="5551560" y="4414680"/>
            <a:ext cx="2971800" cy="13136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like INNER join, this will include customer rows with no matching order ro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6EC-562C-4220-BBB0-E7F530272CE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246240" y="1103400"/>
            <a:ext cx="229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Outer Join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200160" y="2417760"/>
            <a:ext cx="1965240" cy="33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ike INNER join, this will include customer rows with no matching order r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6" name="Picture 5" descr="Noname.gif"/>
          <p:cNvPicPr/>
          <p:nvPr/>
        </p:nvPicPr>
        <p:blipFill>
          <a:blip r:embed="rId2"/>
          <a:stretch/>
        </p:blipFill>
        <p:spPr>
          <a:xfrm>
            <a:off x="2428920" y="387360"/>
            <a:ext cx="5532480" cy="5875200"/>
          </a:xfrm>
          <a:prstGeom prst="rect">
            <a:avLst/>
          </a:prstGeom>
          <a:ln w="0">
            <a:noFill/>
          </a:ln>
        </p:spPr>
      </p:pic>
      <p:sp>
        <p:nvSpPr>
          <p:cNvPr id="56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E7F4-9CE9-4E47-8494-5682FCC71A8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2" descr="Noname.gif"/>
          <p:cNvPicPr/>
          <p:nvPr/>
        </p:nvPicPr>
        <p:blipFill>
          <a:blip r:embed="rId2"/>
          <a:stretch/>
        </p:blipFill>
        <p:spPr>
          <a:xfrm>
            <a:off x="395280" y="1806480"/>
            <a:ext cx="84758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65200" y="372600"/>
            <a:ext cx="7772400" cy="73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ULTIPLE TABLE 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098360"/>
            <a:ext cx="914400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semble all information necessary to create an invoice for order number 1006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6553080" y="61167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2427-F1F5-43A5-B570-1C8A48BCD78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4" name="Group 12"/>
          <p:cNvGrpSpPr/>
          <p:nvPr/>
        </p:nvGrpSpPr>
        <p:grpSpPr>
          <a:xfrm>
            <a:off x="1295280" y="3333600"/>
            <a:ext cx="7672320" cy="1099440"/>
            <a:chOff x="1295280" y="3333600"/>
            <a:chExt cx="7672320" cy="1099440"/>
          </a:xfrm>
        </p:grpSpPr>
        <p:sp>
          <p:nvSpPr>
            <p:cNvPr id="575" name="Rectangle 4"/>
            <p:cNvSpPr/>
            <p:nvPr/>
          </p:nvSpPr>
          <p:spPr>
            <a:xfrm>
              <a:off x="1295280" y="3531960"/>
              <a:ext cx="5554440" cy="4536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Text Box 5"/>
            <p:cNvSpPr/>
            <p:nvPr/>
          </p:nvSpPr>
          <p:spPr>
            <a:xfrm>
              <a:off x="7336800" y="3333600"/>
              <a:ext cx="1630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90000"/>
                  </a:solidFill>
                  <a:latin typeface="Times New Roman"/>
                </a:rPr>
                <a:t>Four tables involved in this join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7" name="Group 14"/>
          <p:cNvGrpSpPr/>
          <p:nvPr/>
        </p:nvGrpSpPr>
        <p:grpSpPr>
          <a:xfrm>
            <a:off x="485640" y="3971880"/>
            <a:ext cx="8638920" cy="2298240"/>
            <a:chOff x="485640" y="3971880"/>
            <a:chExt cx="8638920" cy="2298240"/>
          </a:xfrm>
        </p:grpSpPr>
        <p:sp>
          <p:nvSpPr>
            <p:cNvPr id="578" name="Text Box 9"/>
            <p:cNvSpPr/>
            <p:nvPr/>
          </p:nvSpPr>
          <p:spPr>
            <a:xfrm>
              <a:off x="485640" y="5566320"/>
              <a:ext cx="8638920" cy="703800"/>
            </a:xfrm>
            <a:prstGeom prst="rect">
              <a:avLst/>
            </a:prstGeom>
            <a:noFill/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Each pair of tables requires an equality-check condition in the WHERE clause, matching primary keys against foreign keys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Rectangle 10"/>
            <p:cNvSpPr/>
            <p:nvPr/>
          </p:nvSpPr>
          <p:spPr>
            <a:xfrm>
              <a:off x="717840" y="3971880"/>
              <a:ext cx="6596280" cy="109728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 flipV="1">
              <a:off x="5173920" y="5048280"/>
              <a:ext cx="0" cy="62136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13" descr="Noname.gif"/>
          <p:cNvPicPr/>
          <p:nvPr/>
        </p:nvPicPr>
        <p:blipFill>
          <a:blip r:embed="rId2"/>
          <a:stretch/>
        </p:blipFill>
        <p:spPr>
          <a:xfrm>
            <a:off x="441360" y="1924200"/>
            <a:ext cx="8197920" cy="2993760"/>
          </a:xfrm>
          <a:prstGeom prst="rect">
            <a:avLst/>
          </a:prstGeom>
          <a:ln w="0">
            <a:noFill/>
          </a:ln>
        </p:spPr>
      </p:pic>
      <p:sp>
        <p:nvSpPr>
          <p:cNvPr id="58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0363-F71F-466E-B3EB-43F1046935F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65040" y="587520"/>
            <a:ext cx="80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4 Results from a four-table join (edited for readabili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4" name="Group 18"/>
          <p:cNvGrpSpPr/>
          <p:nvPr/>
        </p:nvGrpSpPr>
        <p:grpSpPr>
          <a:xfrm>
            <a:off x="457200" y="1503360"/>
            <a:ext cx="8128080" cy="2001600"/>
            <a:chOff x="457200" y="1503360"/>
            <a:chExt cx="8128080" cy="2001600"/>
          </a:xfrm>
        </p:grpSpPr>
        <p:sp>
          <p:nvSpPr>
            <p:cNvPr id="585" name="Rectangle 5"/>
            <p:cNvSpPr/>
            <p:nvPr/>
          </p:nvSpPr>
          <p:spPr>
            <a:xfrm>
              <a:off x="457200" y="1961640"/>
              <a:ext cx="8128080" cy="15433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Text Box 6"/>
            <p:cNvSpPr/>
            <p:nvPr/>
          </p:nvSpPr>
          <p:spPr>
            <a:xfrm>
              <a:off x="2820600" y="1503360"/>
              <a:ext cx="358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CUSTOMER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7" name="Group 7"/>
          <p:cNvGrpSpPr/>
          <p:nvPr/>
        </p:nvGrpSpPr>
        <p:grpSpPr>
          <a:xfrm>
            <a:off x="457200" y="3500280"/>
            <a:ext cx="3110400" cy="2038320"/>
            <a:chOff x="457200" y="3500280"/>
            <a:chExt cx="3110400" cy="2038320"/>
          </a:xfrm>
        </p:grpSpPr>
        <p:sp>
          <p:nvSpPr>
            <p:cNvPr id="588" name="Rectangle 8"/>
            <p:cNvSpPr/>
            <p:nvPr/>
          </p:nvSpPr>
          <p:spPr>
            <a:xfrm>
              <a:off x="457200" y="3500280"/>
              <a:ext cx="3058920" cy="13874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Text Box 9"/>
            <p:cNvSpPr/>
            <p:nvPr/>
          </p:nvSpPr>
          <p:spPr>
            <a:xfrm>
              <a:off x="610200" y="5078880"/>
              <a:ext cx="29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ORDER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Group 10"/>
          <p:cNvGrpSpPr/>
          <p:nvPr/>
        </p:nvGrpSpPr>
        <p:grpSpPr>
          <a:xfrm>
            <a:off x="3565440" y="3508200"/>
            <a:ext cx="4994280" cy="2023200"/>
            <a:chOff x="3565440" y="3508200"/>
            <a:chExt cx="4994280" cy="2023200"/>
          </a:xfrm>
        </p:grpSpPr>
        <p:sp>
          <p:nvSpPr>
            <p:cNvPr id="591" name="Rectangle 11"/>
            <p:cNvSpPr/>
            <p:nvPr/>
          </p:nvSpPr>
          <p:spPr>
            <a:xfrm>
              <a:off x="3565440" y="3508200"/>
              <a:ext cx="4994280" cy="138456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4289400" y="5071680"/>
              <a:ext cx="33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From PRODUCT_T tab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LF-JOIN EXAMPLE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4E34-52E2-48BB-94D4-8EAA0FCD6C6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5" name="Picture 4" descr="Noname.gif"/>
          <p:cNvPicPr/>
          <p:nvPr/>
        </p:nvPicPr>
        <p:blipFill>
          <a:blip r:embed="rId2"/>
          <a:stretch/>
        </p:blipFill>
        <p:spPr>
          <a:xfrm>
            <a:off x="298440" y="1171440"/>
            <a:ext cx="8472600" cy="46245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4"/>
          <p:cNvSpPr/>
          <p:nvPr/>
        </p:nvSpPr>
        <p:spPr>
          <a:xfrm>
            <a:off x="1476360" y="2759040"/>
            <a:ext cx="3236760" cy="3319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6418440" y="2827440"/>
            <a:ext cx="2635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same table is used on both sides of the join; distinguished using table ali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398520" y="5735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elf-joins are usually used on tables with unary relationshi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C8BF-9C2E-4401-B6F2-ABA900E88F3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3" descr="Noname.jpg"/>
          <p:cNvPicPr/>
          <p:nvPr/>
        </p:nvPicPr>
        <p:blipFill>
          <a:blip r:embed="rId2"/>
          <a:stretch/>
        </p:blipFill>
        <p:spPr>
          <a:xfrm>
            <a:off x="1011240" y="1371600"/>
            <a:ext cx="7589880" cy="4653000"/>
          </a:xfrm>
          <a:prstGeom prst="rect">
            <a:avLst/>
          </a:prstGeom>
          <a:ln w="0">
            <a:noFill/>
          </a:ln>
        </p:spPr>
      </p:pic>
      <p:sp>
        <p:nvSpPr>
          <p:cNvPr id="601" name="TextBox 4"/>
          <p:cNvSpPr/>
          <p:nvPr/>
        </p:nvSpPr>
        <p:spPr>
          <a:xfrm>
            <a:off x="1240200" y="5508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5 Example of a self-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79400" y="434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PROCESSING MULTIPLE TAB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USING SUBQUERIES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440" y="1838160"/>
            <a:ext cx="821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query–placing an inner query (SELECT statement) inside an outer qu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ption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 a condition of the WHERE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s a “table” of the FROM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thin the HAVING clau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ubqueries can be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oncorrelated–executed once for the entire outer que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rrelated–executed once for each row returned by the outer quer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9259-E36F-4E40-A9A4-8C86FC19D97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13" descr="Noname.gif"/>
          <p:cNvPicPr/>
          <p:nvPr/>
        </p:nvPicPr>
        <p:blipFill>
          <a:blip r:embed="rId2"/>
          <a:stretch/>
        </p:blipFill>
        <p:spPr>
          <a:xfrm>
            <a:off x="127080" y="1832040"/>
            <a:ext cx="7472160" cy="282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77800" y="376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UBQUERY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109980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how all customers who have placed an ord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58D-D54C-413A-807D-2452E527F76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9" name="Group 4"/>
          <p:cNvGrpSpPr/>
          <p:nvPr/>
        </p:nvGrpSpPr>
        <p:grpSpPr>
          <a:xfrm>
            <a:off x="457200" y="3562200"/>
            <a:ext cx="6968880" cy="2545200"/>
            <a:chOff x="457200" y="3562200"/>
            <a:chExt cx="6968880" cy="2545200"/>
          </a:xfrm>
        </p:grpSpPr>
        <p:sp>
          <p:nvSpPr>
            <p:cNvPr id="610" name="Text Box 5"/>
            <p:cNvSpPr/>
            <p:nvPr/>
          </p:nvSpPr>
          <p:spPr>
            <a:xfrm>
              <a:off x="457200" y="4916160"/>
              <a:ext cx="529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Times New Roman"/>
                </a:rPr>
                <a:t>Subquery is embedded in parentheses. In this case it returns a list that will be used in the WHERE clause of the outer quer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1703160" y="3562200"/>
              <a:ext cx="5722920" cy="8827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7"/>
            <p:cNvSpPr/>
            <p:nvPr/>
          </p:nvSpPr>
          <p:spPr>
            <a:xfrm flipV="1">
              <a:off x="1920240" y="4471920"/>
              <a:ext cx="0" cy="4572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3" name="Text Box 10"/>
          <p:cNvSpPr/>
          <p:nvPr/>
        </p:nvSpPr>
        <p:spPr>
          <a:xfrm>
            <a:off x="5438880" y="1539720"/>
            <a:ext cx="3689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IN operator will test to see if the CUSTOMER_ID value of a row is included in the list returned from the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Picture 12" descr="Noname.jpg"/>
          <p:cNvPicPr/>
          <p:nvPr/>
        </p:nvPicPr>
        <p:blipFill>
          <a:blip r:embed="rId3"/>
          <a:stretch/>
        </p:blipFill>
        <p:spPr>
          <a:xfrm>
            <a:off x="7024680" y="3984480"/>
            <a:ext cx="2040120" cy="22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7800" y="376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JOIN VS. SUBQUERY 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1207800"/>
            <a:ext cx="914400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 queries could be accomplished by either a join or a sub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C520-4068-48C6-9716-B3E339D37ED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8" name="Picture 12" descr="Noname.jpg"/>
          <p:cNvPicPr/>
          <p:nvPr/>
        </p:nvPicPr>
        <p:blipFill>
          <a:blip r:embed="rId2"/>
          <a:stretch/>
        </p:blipFill>
        <p:spPr>
          <a:xfrm>
            <a:off x="615960" y="2847960"/>
            <a:ext cx="5595840" cy="1495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3" descr="Noname.jpg"/>
          <p:cNvPicPr/>
          <p:nvPr/>
        </p:nvPicPr>
        <p:blipFill>
          <a:blip r:embed="rId3"/>
          <a:stretch/>
        </p:blipFill>
        <p:spPr>
          <a:xfrm>
            <a:off x="771480" y="2155680"/>
            <a:ext cx="7607520" cy="520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4" descr="Noname.jpg"/>
          <p:cNvPicPr/>
          <p:nvPr/>
        </p:nvPicPr>
        <p:blipFill>
          <a:blip r:embed="rId4"/>
          <a:stretch/>
        </p:blipFill>
        <p:spPr>
          <a:xfrm>
            <a:off x="3740040" y="4443480"/>
            <a:ext cx="4972320" cy="176220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2"/>
          <p:cNvSpPr/>
          <p:nvPr/>
        </p:nvSpPr>
        <p:spPr>
          <a:xfrm>
            <a:off x="6359400" y="309564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Join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1197000" y="5197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Subquery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22200" y="1332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rite single and multiple table SQL queri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ine and use three types of joi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Write noncorrelated and correlated subqueri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derstand and use SQL in procedural languages (e.g. PHP, PL/SQL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nderstand triggers and stored procedure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iscuss SQL:2008 standard and its enhancements and extension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3D81-2EFF-4517-AD99-51C72B69825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58720" y="329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09B-BC45-4D91-9B18-06E89C88053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Picture 17" descr="Noname.jpg"/>
          <p:cNvPicPr/>
          <p:nvPr/>
        </p:nvPicPr>
        <p:blipFill>
          <a:blip r:embed="rId2"/>
          <a:stretch/>
        </p:blipFill>
        <p:spPr>
          <a:xfrm>
            <a:off x="701640" y="1165320"/>
            <a:ext cx="7945560" cy="5100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8"/>
          <p:cNvSpPr/>
          <p:nvPr/>
        </p:nvSpPr>
        <p:spPr>
          <a:xfrm>
            <a:off x="1290600" y="2286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6 Graphical depiction of two ways to answer a query with different types of j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F65B-266B-415B-BD71-9573B446E93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Box 18"/>
          <p:cNvSpPr/>
          <p:nvPr/>
        </p:nvSpPr>
        <p:spPr>
          <a:xfrm>
            <a:off x="1290600" y="2286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6 Graphical depiction of two ways to answer a query with different types of jo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8" name="Picture 4" descr="Noname.jpg"/>
          <p:cNvPicPr/>
          <p:nvPr/>
        </p:nvPicPr>
        <p:blipFill>
          <a:blip r:embed="rId2"/>
          <a:stretch/>
        </p:blipFill>
        <p:spPr>
          <a:xfrm>
            <a:off x="496800" y="1274760"/>
            <a:ext cx="807408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84200" y="43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RRELATED VS. NONCORRELATED SUB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95200" y="1899720"/>
            <a:ext cx="875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Noncorrelated subquer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o not depend on data from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e once for the entir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orrelated subqueri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ke use of data from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ecute once for each row of the outer que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n use the EXISTS operato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3C72-FA78-4533-818D-0DFD538FE96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8" descr="Noname.gif"/>
          <p:cNvPicPr/>
          <p:nvPr/>
        </p:nvPicPr>
        <p:blipFill>
          <a:blip r:embed="rId2"/>
          <a:stretch/>
        </p:blipFill>
        <p:spPr>
          <a:xfrm>
            <a:off x="552600" y="598320"/>
            <a:ext cx="7883280" cy="5172120"/>
          </a:xfrm>
          <a:prstGeom prst="rect">
            <a:avLst/>
          </a:prstGeom>
          <a:ln w="0">
            <a:noFill/>
          </a:ln>
        </p:spPr>
      </p:pic>
      <p:sp>
        <p:nvSpPr>
          <p:cNvPr id="63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ADD2-CCE6-400A-94C1-440F2BE1CBB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1332000" y="155520"/>
            <a:ext cx="63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8a Processing a noncorrelated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271800" y="5911920"/>
            <a:ext cx="87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 noncorrelated subquery processes completely before the outer query begi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7D14-F1C6-4F2F-A7F7-7E1EA2ACB28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14" descr="Noname.jpg"/>
          <p:cNvPicPr/>
          <p:nvPr/>
        </p:nvPicPr>
        <p:blipFill>
          <a:blip r:embed="rId2"/>
          <a:stretch/>
        </p:blipFill>
        <p:spPr>
          <a:xfrm>
            <a:off x="836640" y="3170160"/>
            <a:ext cx="6230880" cy="18464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8200" y="363600"/>
            <a:ext cx="8431200" cy="64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RRELATED SUBQUERY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0" y="1295280"/>
            <a:ext cx="91440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how all orders that include furniture finished in natural ash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FE3A-C2DB-4A29-8948-DFAD17CAEC6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3" name="Group 4"/>
          <p:cNvGrpSpPr/>
          <p:nvPr/>
        </p:nvGrpSpPr>
        <p:grpSpPr>
          <a:xfrm>
            <a:off x="4773600" y="4278240"/>
            <a:ext cx="4370040" cy="1999440"/>
            <a:chOff x="4773600" y="4278240"/>
            <a:chExt cx="4370040" cy="1999440"/>
          </a:xfrm>
        </p:grpSpPr>
        <p:sp>
          <p:nvSpPr>
            <p:cNvPr id="644" name="Text Box 5"/>
            <p:cNvSpPr/>
            <p:nvPr/>
          </p:nvSpPr>
          <p:spPr>
            <a:xfrm>
              <a:off x="6288840" y="5268960"/>
              <a:ext cx="2854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The subquery is testing for a value that comes from the outer query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Rectangle 6"/>
            <p:cNvSpPr/>
            <p:nvPr/>
          </p:nvSpPr>
          <p:spPr>
            <a:xfrm>
              <a:off x="4773600" y="4278240"/>
              <a:ext cx="2232000" cy="3812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 flipV="1">
              <a:off x="6830640" y="4748400"/>
              <a:ext cx="0" cy="457200"/>
            </a:xfrm>
            <a:prstGeom prst="line">
              <a:avLst/>
            </a:prstGeom>
            <a:ln w="22320">
              <a:solidFill>
                <a:srgbClr val="c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7" name="Group 8"/>
          <p:cNvGrpSpPr/>
          <p:nvPr/>
        </p:nvGrpSpPr>
        <p:grpSpPr>
          <a:xfrm>
            <a:off x="1757520" y="1998720"/>
            <a:ext cx="5654520" cy="1779480"/>
            <a:chOff x="1757520" y="1998720"/>
            <a:chExt cx="5654520" cy="1779480"/>
          </a:xfrm>
        </p:grpSpPr>
        <p:sp>
          <p:nvSpPr>
            <p:cNvPr id="648" name="Rectangle 9"/>
            <p:cNvSpPr/>
            <p:nvPr/>
          </p:nvSpPr>
          <p:spPr>
            <a:xfrm>
              <a:off x="1757520" y="3495600"/>
              <a:ext cx="878040" cy="2826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Text Box 10"/>
            <p:cNvSpPr/>
            <p:nvPr/>
          </p:nvSpPr>
          <p:spPr>
            <a:xfrm>
              <a:off x="3814920" y="1998720"/>
              <a:ext cx="359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imes New Roman"/>
                </a:rPr>
                <a:t>The EXISTS operator will return a TRUE value if the subquery resulted in a non-empty set, otherwise it returns a FAL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Line 11"/>
            <p:cNvSpPr/>
            <p:nvPr/>
          </p:nvSpPr>
          <p:spPr>
            <a:xfrm flipH="1">
              <a:off x="2635560" y="2367000"/>
              <a:ext cx="1241280" cy="11556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TextBox 12"/>
          <p:cNvSpPr/>
          <p:nvPr/>
        </p:nvSpPr>
        <p:spPr>
          <a:xfrm>
            <a:off x="255600" y="5291280"/>
            <a:ext cx="44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A correlated subquery always refers to an attribute from a table referenced in the outer que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6" descr="Noname.gif"/>
          <p:cNvPicPr/>
          <p:nvPr/>
        </p:nvPicPr>
        <p:blipFill>
          <a:blip r:embed="rId2"/>
          <a:stretch/>
        </p:blipFill>
        <p:spPr>
          <a:xfrm>
            <a:off x="2163600" y="177840"/>
            <a:ext cx="6456600" cy="6081840"/>
          </a:xfrm>
          <a:prstGeom prst="rect">
            <a:avLst/>
          </a:prstGeom>
          <a:ln w="0">
            <a:noFill/>
          </a:ln>
        </p:spPr>
      </p:pic>
      <p:sp>
        <p:nvSpPr>
          <p:cNvPr id="65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6E58-29B4-42DE-8FF8-31F557BC873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28760" y="5335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8b Processing a correlated subqu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2271600" y="1393920"/>
            <a:ext cx="322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ubquery refers to outer-query data, so executes once for each row of outer que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28600" y="2816280"/>
            <a:ext cx="182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Note: Only the orders that involve products with Natural Ash will be included in the final resul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E7C-9F43-4403-BAEA-31E5910DFFF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5" descr="Noname.gif"/>
          <p:cNvPicPr/>
          <p:nvPr/>
        </p:nvPicPr>
        <p:blipFill>
          <a:blip r:embed="rId2"/>
          <a:stretch/>
        </p:blipFill>
        <p:spPr>
          <a:xfrm>
            <a:off x="270000" y="3198960"/>
            <a:ext cx="8075520" cy="19778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2200" y="344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ANOTHER SUBQUERY EXAMPL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12600" y="10490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how all products whose standard price is higher than the average pric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8A77-458F-46DA-9C4F-EB824CB59CB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4" name="Group 21"/>
          <p:cNvGrpSpPr/>
          <p:nvPr/>
        </p:nvGrpSpPr>
        <p:grpSpPr>
          <a:xfrm>
            <a:off x="380880" y="4738680"/>
            <a:ext cx="8229600" cy="1469520"/>
            <a:chOff x="380880" y="4738680"/>
            <a:chExt cx="8229600" cy="1469520"/>
          </a:xfrm>
        </p:grpSpPr>
        <p:sp>
          <p:nvSpPr>
            <p:cNvPr id="665" name="Text Box 5"/>
            <p:cNvSpPr/>
            <p:nvPr/>
          </p:nvSpPr>
          <p:spPr>
            <a:xfrm>
              <a:off x="380880" y="529128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The WHERE clause normally cannot include aggregate functions, but because the aggregate is performed in the subquery its result can be used in the outer query’s WHERE clause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Rectangle 6"/>
            <p:cNvSpPr/>
            <p:nvPr/>
          </p:nvSpPr>
          <p:spPr>
            <a:xfrm>
              <a:off x="1558800" y="4738680"/>
              <a:ext cx="3902040" cy="35244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7" name="Group 20"/>
          <p:cNvGrpSpPr/>
          <p:nvPr/>
        </p:nvGrpSpPr>
        <p:grpSpPr>
          <a:xfrm>
            <a:off x="1863720" y="1798560"/>
            <a:ext cx="7176960" cy="2566800"/>
            <a:chOff x="1863720" y="1798560"/>
            <a:chExt cx="7176960" cy="2566800"/>
          </a:xfrm>
        </p:grpSpPr>
        <p:sp>
          <p:nvSpPr>
            <p:cNvPr id="668" name="Rectangle 9"/>
            <p:cNvSpPr/>
            <p:nvPr/>
          </p:nvSpPr>
          <p:spPr>
            <a:xfrm>
              <a:off x="1863720" y="4022640"/>
              <a:ext cx="4279680" cy="34272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10"/>
            <p:cNvSpPr/>
            <p:nvPr/>
          </p:nvSpPr>
          <p:spPr>
            <a:xfrm>
              <a:off x="4732200" y="1798560"/>
              <a:ext cx="43084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One column of the subquery is an aggregate function that has an alias name. That alias can then be referred to in the outer query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Line 11"/>
            <p:cNvSpPr/>
            <p:nvPr/>
          </p:nvSpPr>
          <p:spPr>
            <a:xfrm flipH="1">
              <a:off x="3615840" y="2651040"/>
              <a:ext cx="1143000" cy="1371600"/>
            </a:xfrm>
            <a:prstGeom prst="line">
              <a:avLst/>
            </a:prstGeom>
            <a:ln w="22320">
              <a:solidFill>
                <a:srgbClr val="99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1" name="Group 19"/>
          <p:cNvGrpSpPr/>
          <p:nvPr/>
        </p:nvGrpSpPr>
        <p:grpSpPr>
          <a:xfrm>
            <a:off x="228600" y="2065320"/>
            <a:ext cx="8116920" cy="2583000"/>
            <a:chOff x="228600" y="2065320"/>
            <a:chExt cx="8116920" cy="2583000"/>
          </a:xfrm>
        </p:grpSpPr>
        <p:sp>
          <p:nvSpPr>
            <p:cNvPr id="672" name="Rectangle 13"/>
            <p:cNvSpPr/>
            <p:nvPr/>
          </p:nvSpPr>
          <p:spPr>
            <a:xfrm>
              <a:off x="754200" y="3962520"/>
              <a:ext cx="7591320" cy="685800"/>
            </a:xfrm>
            <a:prstGeom prst="rect">
              <a:avLst/>
            </a:prstGeom>
            <a:noFill/>
            <a:ln w="255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Text Box 14"/>
            <p:cNvSpPr/>
            <p:nvPr/>
          </p:nvSpPr>
          <p:spPr>
            <a:xfrm>
              <a:off x="228600" y="2065320"/>
              <a:ext cx="3368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  <a:ea typeface="Tahoma"/>
                </a:rPr>
                <a:t>Subquery forms the derived table used in the FROM clause of the outer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5"/>
            <p:cNvSpPr/>
            <p:nvPr/>
          </p:nvSpPr>
          <p:spPr>
            <a:xfrm>
              <a:off x="2170080" y="2994120"/>
              <a:ext cx="0" cy="914400"/>
            </a:xfrm>
            <a:prstGeom prst="line">
              <a:avLst/>
            </a:prstGeom>
            <a:ln w="255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14" descr="Noname.gif"/>
          <p:cNvPicPr/>
          <p:nvPr/>
        </p:nvPicPr>
        <p:blipFill>
          <a:blip r:embed="rId2"/>
          <a:stretch/>
        </p:blipFill>
        <p:spPr>
          <a:xfrm>
            <a:off x="1625760" y="1809720"/>
            <a:ext cx="6886440" cy="451332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12800" y="361440"/>
            <a:ext cx="68976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NION 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41280" y="981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Combine the output (union of multiple queries) together into a single result table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FE70-2CFC-42BF-868E-0BC4BCFFE32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9" name="Group 9"/>
          <p:cNvGrpSpPr/>
          <p:nvPr/>
        </p:nvGrpSpPr>
        <p:grpSpPr>
          <a:xfrm>
            <a:off x="1600200" y="1893960"/>
            <a:ext cx="6858000" cy="1995120"/>
            <a:chOff x="1600200" y="1893960"/>
            <a:chExt cx="6858000" cy="1995120"/>
          </a:xfrm>
        </p:grpSpPr>
        <p:sp>
          <p:nvSpPr>
            <p:cNvPr id="680" name="Rectangle 5"/>
            <p:cNvSpPr/>
            <p:nvPr/>
          </p:nvSpPr>
          <p:spPr>
            <a:xfrm>
              <a:off x="1600200" y="1893960"/>
              <a:ext cx="6858000" cy="1995120"/>
            </a:xfrm>
            <a:prstGeom prst="rect">
              <a:avLst/>
            </a:prstGeom>
            <a:noFill/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Text Box 7"/>
            <p:cNvSpPr/>
            <p:nvPr/>
          </p:nvSpPr>
          <p:spPr>
            <a:xfrm>
              <a:off x="6807240" y="2867760"/>
              <a:ext cx="13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First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2" name="Group 10"/>
          <p:cNvGrpSpPr/>
          <p:nvPr/>
        </p:nvGrpSpPr>
        <p:grpSpPr>
          <a:xfrm>
            <a:off x="1600200" y="4140360"/>
            <a:ext cx="6860880" cy="2064960"/>
            <a:chOff x="1600200" y="4140360"/>
            <a:chExt cx="6860880" cy="2064960"/>
          </a:xfrm>
        </p:grpSpPr>
        <p:sp>
          <p:nvSpPr>
            <p:cNvPr id="683" name="Rectangle 6"/>
            <p:cNvSpPr/>
            <p:nvPr/>
          </p:nvSpPr>
          <p:spPr>
            <a:xfrm>
              <a:off x="1600200" y="4140360"/>
              <a:ext cx="6858000" cy="2064960"/>
            </a:xfrm>
            <a:prstGeom prst="rect">
              <a:avLst/>
            </a:prstGeom>
            <a:noFill/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Text Box 8"/>
            <p:cNvSpPr/>
            <p:nvPr/>
          </p:nvSpPr>
          <p:spPr>
            <a:xfrm>
              <a:off x="6812640" y="5073120"/>
              <a:ext cx="164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Second query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5" name="Group 13"/>
          <p:cNvGrpSpPr/>
          <p:nvPr/>
        </p:nvGrpSpPr>
        <p:grpSpPr>
          <a:xfrm>
            <a:off x="-28080" y="3870360"/>
            <a:ext cx="1715760" cy="368280"/>
            <a:chOff x="-28080" y="3870360"/>
            <a:chExt cx="1715760" cy="368280"/>
          </a:xfrm>
        </p:grpSpPr>
        <p:sp>
          <p:nvSpPr>
            <p:cNvPr id="686" name="Text Box 11"/>
            <p:cNvSpPr/>
            <p:nvPr/>
          </p:nvSpPr>
          <p:spPr>
            <a:xfrm>
              <a:off x="-28080" y="3870360"/>
              <a:ext cx="114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00"/>
                  </a:solidFill>
                  <a:latin typeface="Tahoma"/>
                </a:rPr>
                <a:t>Comb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Line 12"/>
            <p:cNvSpPr/>
            <p:nvPr/>
          </p:nvSpPr>
          <p:spPr>
            <a:xfrm>
              <a:off x="1077840" y="4022640"/>
              <a:ext cx="609840" cy="0"/>
            </a:xfrm>
            <a:prstGeom prst="line">
              <a:avLst/>
            </a:prstGeom>
            <a:ln w="158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4ED-0FEF-4452-8713-A73735FC96A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017000" y="19368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9 Combining queries using UN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0" name="Picture 4" descr="Noname.gif"/>
          <p:cNvPicPr/>
          <p:nvPr/>
        </p:nvPicPr>
        <p:blipFill>
          <a:blip r:embed="rId2"/>
          <a:stretch/>
        </p:blipFill>
        <p:spPr>
          <a:xfrm>
            <a:off x="163440" y="676440"/>
            <a:ext cx="8426520" cy="5454360"/>
          </a:xfrm>
          <a:prstGeom prst="rect">
            <a:avLst/>
          </a:prstGeom>
          <a:ln w="0">
            <a:noFill/>
          </a:ln>
        </p:spPr>
      </p:pic>
      <p:sp>
        <p:nvSpPr>
          <p:cNvPr id="691" name="TextBox 5"/>
          <p:cNvSpPr/>
          <p:nvPr/>
        </p:nvSpPr>
        <p:spPr>
          <a:xfrm>
            <a:off x="6826320" y="1995480"/>
            <a:ext cx="2151000" cy="25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Note: With UNION queries, the quantity and data types of the attributes in the SELECT clauses of both queries must be identic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1120680" y="3463920"/>
            <a:ext cx="5073840" cy="2318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1131840" y="900000"/>
            <a:ext cx="5886360" cy="1954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8D9-637C-4FEF-84BB-D1A6F94545A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7840" y="455760"/>
            <a:ext cx="86058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ONDITIONAL EXPRESSIONS USING CASE SYNTAX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36600" y="1869840"/>
            <a:ext cx="403848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is is available with newer versions of SQL, previously not part of the standar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gure 7-10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047F-3952-4768-8F3E-2FA072003F8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0" name="Picture 5" descr="Noname.jpg"/>
          <p:cNvPicPr/>
          <p:nvPr/>
        </p:nvPicPr>
        <p:blipFill>
          <a:blip r:embed="rId2"/>
          <a:stretch/>
        </p:blipFill>
        <p:spPr>
          <a:xfrm>
            <a:off x="4287960" y="1487520"/>
            <a:ext cx="4340160" cy="290340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Noname.gif"/>
          <p:cNvPicPr/>
          <p:nvPr/>
        </p:nvPicPr>
        <p:blipFill>
          <a:blip r:embed="rId3"/>
          <a:stretch/>
        </p:blipFill>
        <p:spPr>
          <a:xfrm>
            <a:off x="1687680" y="4646520"/>
            <a:ext cx="54864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376200"/>
            <a:ext cx="7799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OCESSING MULTIPLE TAB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96800" y="1398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 relational operation that causes two or more tables with a common domain to be combined into a single table or view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qui-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 join in which the joining condition is based on equality between values in the common columns; common columns appear redundantly in the result tabl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Natural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an equi-join in which one of the duplicate columns is eliminated in the result tabl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04F3-4F58-4ECF-840F-3564F2238F1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293760" y="5070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e common columns in joined tables are usually the primary key of the dominant table and the foreign key of the dependent table in 1:M relationshi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98480" y="32184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IPS FOR DEVELOPING QUER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712800" y="1192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Be familiar with the data model (entities and relationships)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Understand the desired result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Know the attributes desired in result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Identify the entities that contain desired attributes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Review ERD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Construct a WHERE equality for each link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Fine tune with GROUP BY and HAVING clauses if needed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e3b30"/>
                </a:solidFill>
                <a:latin typeface="Franklin Gothic Book"/>
              </a:rPr>
              <a:t>Consider the effect on unusual data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9A9C-DE3F-426F-914D-7A660E0553A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QUERY EFFICIENCY CONSIDERA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457200" y="15177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tead of SELECT *, identify the specific attributes in the SELECT clause; this helps reduce network traffic of result s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Limit the number of subqueries; try to make everything done in a single query if possibl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f data is to be used many times, make a separate query and store it as a view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41F0-6B8C-4EDF-9FC9-CAA0516012C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92200" y="447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UIDELINES FOR BETTER QUERY DESIG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30200" y="1817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nderstand how indexes are used in query processing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Keep optimizer statistics up-to-da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 compatible data types for fields and literal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rite simple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eak complex queries into multiple simple part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nest one query inside another query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combine a query with itself (if possible avoid self-join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62C8-7FB4-4F68-BC4D-0F61B4E1364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UIDELINES FOR BETTER QUERY DESIGN (CONT.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403200" y="205236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emporary tables for groups of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bine update oper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etrieve only the data you nee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on’t have the DBMS sort without an index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earn!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sider the total query processing time for ad hoc queri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57FF-61AC-4C47-86EE-17DC8F2A33A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09120" y="390600"/>
            <a:ext cx="853452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NSURING TRANSACTION INTEGR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ransaction = A discrete unit of work that must be completely processed or not processed at al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y involve multiple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f any update fails, then all other updates must be cancell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QL commands for transac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EGIN TRANSACTION/END TRANSA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rks boundaries of a transa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OMMI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kes all updates permanen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ROLLBAC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ncels updates since the last COMMI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4950-EFF6-495E-A252-F9E0D3202D3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D1B2-1C72-4ED0-A358-EEE62642396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Text Box 2"/>
          <p:cNvSpPr/>
          <p:nvPr/>
        </p:nvSpPr>
        <p:spPr>
          <a:xfrm>
            <a:off x="1000440" y="193680"/>
            <a:ext cx="74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2 An SQL Transaction sequence (in pseudocod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9" name="Picture 4" descr="Noname.gif"/>
          <p:cNvPicPr/>
          <p:nvPr/>
        </p:nvPicPr>
        <p:blipFill>
          <a:blip r:embed="rId2"/>
          <a:stretch/>
        </p:blipFill>
        <p:spPr>
          <a:xfrm>
            <a:off x="895320" y="695160"/>
            <a:ext cx="7321680" cy="5515200"/>
          </a:xfrm>
          <a:prstGeom prst="rect">
            <a:avLst/>
          </a:prstGeom>
          <a:ln w="0">
            <a:noFill/>
          </a:ln>
        </p:spPr>
      </p:pic>
      <p:sp>
        <p:nvSpPr>
          <p:cNvPr id="720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E229-94E7-4CA2-B91A-3FF36CC875F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739800" y="353520"/>
            <a:ext cx="7354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DICTIONARY FACILITI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501120" y="1170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tem tables that store meta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s usually can view some of these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s are restricted from updating th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ome examples in Oracle 11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TABLES – descriptions of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CONSTRAINTS – description of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BA_USERS – information about the users of the syste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s in Microsoft SQL Server 200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columns – table and column definition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indexes – table index inform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ys.foreign_key_columns – details about columns in foreign key constraint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3E7-0BB8-441D-9AC7-C2B43D9EE32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:2008 ENHANCEMENTS/EXTENS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16000" y="1679040"/>
            <a:ext cx="8928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r-defined data types (UDT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ubclasses of standard types or an object typ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nalytical functions (for OLAP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EILING, FLOOR, SQRT, RANK, DENSE_RANK, ROLLUP, CUBE, SAMPLE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WINDOW–improved numerical analysis capabiliti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w Data Typ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IGINT, MULTISET (collection), XM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ABLE LIKE–create a new table similar to an existing on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R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657-85D9-4B87-8F2F-FF9FF6F8B92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7621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gramming exten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ersistent Stored Modules (SQL/PSM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pability to create and drop code modu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ew statemen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SE, IF, LOOP, FOR, WHILE, etc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akes SQL into a procedural languag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racle has propriety version called PL/SQL, and Microsoft SQL Server has Transact/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8A40-3313-4E90-B158-FAE7BDA4E8E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3020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:2008 ENHANCEMENTS (CONT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25400" y="37584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OUTINES AND TRIGGER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685800" y="137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Routin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gram modules that execute on deman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Function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return values and take input parame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Procedure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do not return values and can take input or output paramete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Trigger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routines that execute in response to a database event (INSERT, UPDATE, or DELET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847-F0E9-4C2B-B9B9-2E7492F96B4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66440" y="336240"/>
            <a:ext cx="7932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ROCESSING MULTIPLE TABL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41120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Outer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join in which rows that do not have matching values in common columns are nonetheless included in the result table (as opposed to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nne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join, in which rows must have matching values in order to appear in the result table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nion joi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cludes all columns from each table in the join, and an instance for each row of each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7673-FFB8-42EC-8E9C-3229088EC60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Noname.jpg"/>
          <p:cNvPicPr/>
          <p:nvPr/>
        </p:nvPicPr>
        <p:blipFill>
          <a:blip r:embed="rId2"/>
          <a:stretch/>
        </p:blipFill>
        <p:spPr>
          <a:xfrm>
            <a:off x="1239840" y="787320"/>
            <a:ext cx="7391520" cy="542916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318C-67D9-410B-8640-85E9B350E80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147600" y="19080"/>
            <a:ext cx="876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7-13 Triggers contrasted with stored procedures (based on Mullins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2764080" y="86364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ocedures are called explici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348000" y="5702400"/>
            <a:ext cx="328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riggers are event-dri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1143000" y="601992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: adapted from Mullins, 1995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C35A-3831-419B-B875-6DDA06CD59A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" descr="Noname.jpg"/>
          <p:cNvPicPr/>
          <p:nvPr/>
        </p:nvPicPr>
        <p:blipFill>
          <a:blip r:embed="rId2"/>
          <a:stretch/>
        </p:blipFill>
        <p:spPr>
          <a:xfrm>
            <a:off x="1157400" y="3116160"/>
            <a:ext cx="6829200" cy="3238560"/>
          </a:xfrm>
          <a:prstGeom prst="rect">
            <a:avLst/>
          </a:prstGeom>
          <a:ln w="0">
            <a:noFill/>
          </a:ln>
        </p:spPr>
      </p:pic>
      <p:sp>
        <p:nvSpPr>
          <p:cNvPr id="74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659-6C85-432C-99B5-618C8DD44F9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Text Box 3"/>
          <p:cNvSpPr/>
          <p:nvPr/>
        </p:nvSpPr>
        <p:spPr>
          <a:xfrm>
            <a:off x="1395360" y="38088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4 Simplified trigger syntax, SQL: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315800" y="2664000"/>
            <a:ext cx="66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5 Syntax for creating a routine, SQL: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8" name="Picture 6" descr="Noname.jpg"/>
          <p:cNvPicPr/>
          <p:nvPr/>
        </p:nvPicPr>
        <p:blipFill>
          <a:blip r:embed="rId3"/>
          <a:stretch/>
        </p:blipFill>
        <p:spPr>
          <a:xfrm>
            <a:off x="826920" y="895320"/>
            <a:ext cx="7444080" cy="1514520"/>
          </a:xfrm>
          <a:prstGeom prst="rect">
            <a:avLst/>
          </a:prstGeom>
          <a:ln w="0">
            <a:noFill/>
          </a:ln>
        </p:spPr>
      </p:pic>
      <p:sp>
        <p:nvSpPr>
          <p:cNvPr id="749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C4DE-72BF-492A-988C-C3CFA41901B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1155-ABB8-4CAA-BF11-815BE097278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3" name="Picture 2" descr="Noname.gif"/>
          <p:cNvPicPr/>
          <p:nvPr/>
        </p:nvPicPr>
        <p:blipFill>
          <a:blip r:embed="rId2"/>
          <a:stretch/>
        </p:blipFill>
        <p:spPr>
          <a:xfrm>
            <a:off x="642960" y="257040"/>
            <a:ext cx="7858080" cy="5829480"/>
          </a:xfrm>
          <a:prstGeom prst="rect">
            <a:avLst/>
          </a:prstGeom>
          <a:ln w="0">
            <a:noFill/>
          </a:ln>
        </p:spPr>
      </p:pic>
      <p:sp>
        <p:nvSpPr>
          <p:cNvPr id="754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B6C9-FB0D-4016-8154-30ED7C6F991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25520" y="40320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MBEDDED AND DYNAMIC SQL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68200" y="1419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mbedded SQ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cluding hard-coded SQL statements in a program written in another language such as C or Ja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ynamic SQL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bility for an application program to generate SQL code on the fly, as the application is runn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F355-52D7-4B4B-B94D-78C23771408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20560" y="363600"/>
            <a:ext cx="7817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ASONS TO EMBED SQL IN 3GL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n create a more flexible, accessible interface for the use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ossible performance improve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base security improvement; grant access only to the application instead of user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D26E-6951-4175-BA25-2C2BF88CD62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5CA-2FB0-430B-89F3-56D4F8B33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4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65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EF98-7E6C-4398-97F8-C49393CFC43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8" name="Picture 4" descr="Noname.jpg"/>
          <p:cNvPicPr/>
          <p:nvPr/>
        </p:nvPicPr>
        <p:blipFill>
          <a:blip r:embed="rId2"/>
          <a:stretch/>
        </p:blipFill>
        <p:spPr>
          <a:xfrm>
            <a:off x="641520" y="1973160"/>
            <a:ext cx="8010360" cy="424836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4"/>
          <p:cNvSpPr/>
          <p:nvPr/>
        </p:nvSpPr>
        <p:spPr>
          <a:xfrm>
            <a:off x="673200" y="619200"/>
            <a:ext cx="797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gure 7-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ization of different join types with results returned in shaded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98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E FOLLOWING SLIDES CREATE TABLES FOR THIS ENTERPRISE DATA MODEL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5AF-025C-4BE4-B9B9-7812A7F05A4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2" name="Picture 7" descr="Noname.gif"/>
          <p:cNvPicPr/>
          <p:nvPr/>
        </p:nvPicPr>
        <p:blipFill>
          <a:blip r:embed="rId2"/>
          <a:stretch/>
        </p:blipFill>
        <p:spPr>
          <a:xfrm>
            <a:off x="414360" y="1519200"/>
            <a:ext cx="8250120" cy="4491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5"/>
          <p:cNvSpPr/>
          <p:nvPr/>
        </p:nvSpPr>
        <p:spPr>
          <a:xfrm>
            <a:off x="3659400" y="162576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(from Chapter 1, Figure 1-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508-43E0-486F-BCEA-9E36F9C92CC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639800" y="53341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These tables are used in queries that fo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365040" y="7632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-1 Pine Valley Furniture Company Customer_T and Order_T tables with pointers from customers to their or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5" descr="Noname.gif"/>
          <p:cNvPicPr/>
          <p:nvPr/>
        </p:nvPicPr>
        <p:blipFill>
          <a:blip r:embed="rId2"/>
          <a:stretch/>
        </p:blipFill>
        <p:spPr>
          <a:xfrm>
            <a:off x="361800" y="1301760"/>
            <a:ext cx="8420400" cy="3900600"/>
          </a:xfrm>
          <a:prstGeom prst="rect">
            <a:avLst/>
          </a:prstGeom>
          <a:ln w="0">
            <a:noFill/>
          </a:ln>
        </p:spPr>
      </p:pic>
      <p:sp>
        <p:nvSpPr>
          <p:cNvPr id="528" name="Slide Number Placeholder 4"/>
          <p:cNvSpPr/>
          <p:nvPr/>
        </p:nvSpPr>
        <p:spPr>
          <a:xfrm>
            <a:off x="8229600" y="64897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A920-D8AF-4828-BEC8-96A841B2BDA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441000" y="627552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1447920" y="61848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EQUI-JOIN EXAMPL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76200" y="101232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or each customer who placed an order, what is the customer’s name and order number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0573-281D-4CF5-B477-AFE92A9DFF3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4" name="Picture 4" descr="Noname.gif"/>
          <p:cNvPicPr/>
          <p:nvPr/>
        </p:nvPicPr>
        <p:blipFill>
          <a:blip r:embed="rId2"/>
          <a:stretch/>
        </p:blipFill>
        <p:spPr>
          <a:xfrm>
            <a:off x="1403280" y="1920960"/>
            <a:ext cx="5924520" cy="13986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5"/>
          <p:cNvSpPr/>
          <p:nvPr/>
        </p:nvSpPr>
        <p:spPr>
          <a:xfrm>
            <a:off x="5600880" y="3948120"/>
            <a:ext cx="30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Customer ID appears twice in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Picture 6" descr="Noname.jpg"/>
          <p:cNvPicPr/>
          <p:nvPr/>
        </p:nvPicPr>
        <p:blipFill>
          <a:blip r:embed="rId3"/>
          <a:stretch/>
        </p:blipFill>
        <p:spPr>
          <a:xfrm>
            <a:off x="789120" y="3402000"/>
            <a:ext cx="40748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96800" y="444600"/>
            <a:ext cx="8028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EQUI-JOIN EXAMPLE – ALTERNATIVE SYNTAX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A47-414D-433B-8BD8-EB1B3A87032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9" name="Picture 8" descr="Noname.jpg"/>
          <p:cNvPicPr/>
          <p:nvPr/>
        </p:nvPicPr>
        <p:blipFill>
          <a:blip r:embed="rId2"/>
          <a:stretch/>
        </p:blipFill>
        <p:spPr>
          <a:xfrm>
            <a:off x="960480" y="1627200"/>
            <a:ext cx="7021440" cy="19368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4"/>
          <p:cNvSpPr/>
          <p:nvPr/>
        </p:nvSpPr>
        <p:spPr>
          <a:xfrm>
            <a:off x="3490920" y="2406600"/>
            <a:ext cx="3219480" cy="349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496800" y="3575160"/>
            <a:ext cx="8352000" cy="2654280"/>
          </a:xfrm>
          <a:prstGeom prst="rect">
            <a:avLst/>
          </a:prstGeom>
          <a:noFill/>
          <a:ln w="126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INNER JOIN clause is an alternative to WHERE clause, and is used to match primary and foreign ke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An INNER join will only return rows from each table that have matching rows in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This query produces same results as previous equi-join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08Z</dcterms:modified>
  <cp:revision>630</cp:revision>
  <dc:subject/>
  <dc:title>Advanced SQL</dc:title>
</cp:coreProperties>
</file>